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90E-CB28-4A49-B28A-C57911E5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9B7-7759-4E47-8191-B7C55DE9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D19-B269-47CE-919F-EF887213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821-4B54-4D0E-B883-8CAEC47D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823-9987-4FB4-85E7-9D46CF6F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47E-3C44-45AD-87FF-F143492F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587-8BF0-4D69-B964-1705A24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CE1-BD68-4804-B096-19B178F3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A0B-18F3-474A-B19A-CEF672C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DB1-9C88-4C48-9BA0-29B072D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5D2-D245-43CA-A581-F70F274B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DF3-7301-4AC5-B8D2-57B76CE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1BA-B113-4655-88FA-696C9F9CB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vert PowerPoint file to pdf f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2:56:55Z</dcterms:created>
  <dc:creator>薛衡</dc:creator>
  <dc:description/>
  <dc:language>en-US</dc:language>
  <cp:lastModifiedBy>薛衡</cp:lastModifiedBy>
  <dcterms:modified xsi:type="dcterms:W3CDTF">2005-02-14T02:57:32Z</dcterms:modified>
  <cp:revision>1</cp:revision>
  <dc:subject/>
  <dc:title>Convert PowerPoint file to pdf file.</dc:title>
</cp:coreProperties>
</file>