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CAA-0C89-4D42-B5AB-E68E8126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CC8-889C-4954-9A07-7B226812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83FC-5137-46A1-8A22-B72FF356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FF86-7194-406F-8EBC-464F2E57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EAF0-E225-4187-95BF-4990C937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7BFE-D258-45BF-9137-D4B546AB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EEED-2C6F-4071-883E-C9E2B6B1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3EB-31DE-49CF-8C28-6D7FD344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288-CBD3-42B4-A830-20B0C156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1E6A-91F0-4B42-94AE-FB99AD45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DD2-3FBA-4368-917F-291C7647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4A2-E995-4BD8-AE88-1D65CB39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4CE5-DA00-41FB-95BF-A47EDE0F22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Convert PowerPoint file to pdf fi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02:56:55Z</dcterms:created>
  <dc:creator>薛衡</dc:creator>
  <dc:description/>
  <dc:language>en-US</dc:language>
  <cp:lastModifiedBy>薛衡</cp:lastModifiedBy>
  <dcterms:modified xsi:type="dcterms:W3CDTF">2005-02-14T02:57:32Z</dcterms:modified>
  <cp:revision>1</cp:revision>
  <dc:subject/>
  <dc:title>Convert PowerPoint file to pdf file.</dc:title>
</cp:coreProperties>
</file>